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CE4-E96B-4C02-B8C1-840B307D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075-07F6-4BA0-A7D5-94C6E9E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2F8-032F-45D7-A11E-50DC5759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90-98A1-424F-84F1-2E72F4CE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63E3-E56C-4F47-AE08-D32A0557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85F51-2692-46DC-8844-DC66CF13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58C4-8483-423B-B734-A53C0CE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35D2-B998-48C3-BD25-4F8DD1B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EA85B-DC95-48E7-A3A2-0F2DAFB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4896-B1C2-417C-97AD-038C18E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98A60-8ADA-4557-B24F-22F5964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34C-4CF0-4623-B3C7-9F39C8A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5C5D4-EEF1-412B-B7BE-7AF89BF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1AB0E-D281-4364-82D6-B278224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40F0A-80D6-4411-88BB-5D5EEE38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E89F7-B00C-4068-B5F6-67D14D0D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A7BF2-407E-408A-856A-DA25205A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0BF-5ECE-4A8A-90F2-E817299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1E7-574D-4918-874C-56C724C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88E-007F-4A72-BFD6-B5B2BA2A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828-C7D7-4421-930E-9C5BC4F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A6D-C5DB-4E68-A6DE-7FF7579B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992-A650-4FDF-94BB-CCBBC76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EA2-66AC-412C-9580-3C83504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404-B151-42A4-A168-AE29140CCCB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72D-BB69-48B6-85F1-27D2A84E72F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xxx</cp:lastModifiedBy>
  <dcterms:modified xsi:type="dcterms:W3CDTF">2005-08-30T16:54:29Z</dcterms:modified>
  <cp:revision>3</cp:revision>
  <dc:subject/>
  <dc:title>PODER ÉTICA Y GESTIÓN</dc:title>
</cp:coreProperties>
</file>